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A62F-B90E-4F2A-9583-2720EC8DA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76d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3C97-58D5-482D-BFC5-6EB89E808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76d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975D-38B0-4BA5-BFF8-62B22C3BB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76d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50E0-28CA-4A01-8E37-6CD9775BF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3126D-88AA-4226-88F3-B17B3AA0F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76d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88AAD-AB6D-4AD3-8EB8-163E9C2BB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76d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40C63-EDAE-4884-9043-7C59AE6B8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76d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12C09-3F39-41B8-837B-F912B3459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76d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86D76-1974-4452-BC51-EADE1D70D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883B3-8672-4ABD-97B6-97F6C5D5C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76d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3DFFD-ADAF-4AC0-948F-E6DD6C38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76d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E22D-8376-4912-BFAC-67D334B7A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76d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8CF49-1BFD-4018-90E6-CC233CB5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76d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58260-B1FE-4ACD-B015-FDBF9A1F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76d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CDCC7-9CEA-436A-96BD-C21614582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76d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3CAAA-BD61-40A6-ACA6-9CC24F209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76d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AE0F3-1B09-4343-B15F-5DE89219C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76d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5B3E-1A0F-42C2-9EB8-8046D3F92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76d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9728-25EF-4FB5-A434-76A9A03B2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76d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E11E-26C6-48E0-AFE3-E3CC1E554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54D6-ACC9-479C-A0F5-C2E00A220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76d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8DE1-9F81-48E5-8288-5286891A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76d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C9F5-7402-4383-AE9F-82867F4D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9676d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46E7-44AE-4394-919D-110AD20E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9676d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69676d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BA414-E346-46B8-A5F4-BC0BD58097D2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Oval 8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" name="Oval 9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" name="Oval 10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9676d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69676d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0E760-E5F9-4279-85E7-446EC5A9CDF9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Wiki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-21420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92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69676d"/>
                </a:solidFill>
                <a:latin typeface="Palatino Linotype"/>
              </a:rPr>
              <a:t>Wikis</a:t>
            </a:r>
            <a:endParaRPr b="0" lang="en-US" sz="8000" spc="-1" strike="noStrike">
              <a:solidFill>
                <a:srgbClr val="69676d"/>
              </a:solidFill>
              <a:latin typeface="Palatino Linotyp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87280" y="2707920"/>
            <a:ext cx="6400800" cy="8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entury Gothic"/>
              </a:rPr>
              <a:t>Collaborative Writing Platform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76d"/>
                </a:solidFill>
                <a:latin typeface="Palatino Linotype"/>
              </a:rPr>
              <a:t>Wiki – the origin of the name</a:t>
            </a:r>
            <a:endParaRPr b="0" lang="en-US" sz="4000" spc="-1" strike="noStrike">
              <a:solidFill>
                <a:srgbClr val="69676d"/>
              </a:solidFill>
              <a:latin typeface="Palatino Linotype"/>
            </a:endParaRPr>
          </a:p>
        </p:txBody>
      </p:sp>
      <p:pic>
        <p:nvPicPr>
          <p:cNvPr id="93" name="Content Placeholder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43120" y="1755720"/>
            <a:ext cx="5364000" cy="80168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9676d"/>
                </a:solidFill>
                <a:latin typeface="Palatino Linotype"/>
              </a:rPr>
              <a:t>About Wikis</a:t>
            </a:r>
            <a:r>
              <a:rPr b="0" lang="en-US" sz="5400" spc="-1" strike="noStrike">
                <a:solidFill>
                  <a:srgbClr val="ff0000"/>
                </a:solidFill>
                <a:latin typeface="Palatino Linotype"/>
              </a:rPr>
              <a:t>*</a:t>
            </a:r>
            <a:endParaRPr b="0" lang="en-US" sz="5400" spc="-1" strike="noStrike">
              <a:solidFill>
                <a:srgbClr val="69676d"/>
              </a:solidFill>
              <a:latin typeface="Palatino Linotype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Wikis are collaborative writing area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All who have “permission” can read and edit the conten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You can see a history of changes and even who made what change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You do not need to know html code to write wiki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Wiki text editor is just like Word and easy to use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Wiki content is created by web users -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Be careful what you write!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entury Gothic"/>
              </a:rPr>
              <a:t>* By courtesy of the British Council</a:t>
            </a: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-21420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Box 4"/>
          <p:cNvSpPr/>
          <p:nvPr/>
        </p:nvSpPr>
        <p:spPr>
          <a:xfrm>
            <a:off x="1258920" y="2349360"/>
            <a:ext cx="61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Wikis in Plain English – Lee Lefevre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9676d"/>
                </a:solidFill>
                <a:latin typeface="Palatino Linotype"/>
              </a:rPr>
              <a:t>Make-A-Wiki</a:t>
            </a:r>
            <a:endParaRPr b="0" lang="en-US" sz="5400" spc="-1" strike="noStrike">
              <a:solidFill>
                <a:srgbClr val="69676d"/>
              </a:solidFill>
              <a:latin typeface="Palatino Linotype"/>
            </a:endParaRPr>
          </a:p>
        </p:txBody>
      </p:sp>
      <p:pic>
        <p:nvPicPr>
          <p:cNvPr id="99" name="Content Placeholder 3" descr=""/>
          <p:cNvPicPr/>
          <p:nvPr/>
        </p:nvPicPr>
        <p:blipFill>
          <a:blip r:embed="rId1"/>
          <a:stretch/>
        </p:blipFill>
        <p:spPr>
          <a:xfrm>
            <a:off x="457200" y="1825560"/>
            <a:ext cx="8229600" cy="40752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"/>
          <p:cNvPicPr/>
          <p:nvPr/>
        </p:nvPicPr>
        <p:blipFill>
          <a:blip r:embed="rId1"/>
          <a:stretch/>
        </p:blipFill>
        <p:spPr>
          <a:xfrm>
            <a:off x="-214200" y="0"/>
            <a:ext cx="93582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9676d"/>
                </a:solidFill>
                <a:latin typeface="Palatino Linotype"/>
              </a:rPr>
              <a:t>Where can we wiki?</a:t>
            </a:r>
            <a:endParaRPr b="0" lang="en-US" sz="5400" spc="-1" strike="noStrike">
              <a:solidFill>
                <a:srgbClr val="69676d"/>
              </a:solidFill>
              <a:latin typeface="Palatino Linotype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Wikispace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Wetpaint wiki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Pbwork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7T11:19:42Z</dcterms:created>
  <dc:creator>moe</dc:creator>
  <dc:description/>
  <dc:language>en-US</dc:language>
  <cp:lastModifiedBy>moe</cp:lastModifiedBy>
  <dcterms:modified xsi:type="dcterms:W3CDTF">2012-01-27T13:27:16Z</dcterms:modified>
  <cp:revision>8</cp:revision>
  <dc:subject/>
  <dc:title>Wikis</dc:title>
</cp:coreProperties>
</file>